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B53-0963-43FA-9572-FB5BFF21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313-229A-4D67-94DB-EC29A075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4AAA2-ADA8-467B-9BF4-F10AFADE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82CF8-51E9-46BE-BA56-E7A6E33D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957E0-466B-4774-8BB5-0F2B003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8913F-DE15-46B9-A409-D36C1878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1D48E-73FE-4C51-965C-356D2F15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18482-C9DE-40A3-B6BA-0001F684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3DA1F-3A4B-4726-BE59-660AB47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C2C7F-D3F9-40B4-8A57-75178314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81ABC-1E7E-4DD4-8C16-E9C4BA69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8FD46-0255-4DA1-823C-14FEBFFD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53E-3C63-46CE-A5B6-B09D13AC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1A7C0-507D-47B1-BF02-6885C9DF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02A0E-8CC4-4B4D-A74B-FD01742E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F1D62-B929-46DB-A40D-5817F5D3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0CCB2-9ED4-4B34-9DB1-AD7CEB2F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5320B-830A-40FF-A3C8-244671C3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49755-8688-45A6-B356-65E7BE6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AD4B1-7F5D-4BDF-A6C9-A48242F2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1F150-C147-4B5B-BBEF-64512AC8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4AA72-577D-4A40-8CCD-2A987BAD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9C1FC-69F3-43F3-A78E-A65AFEBC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F5F-4D83-43D6-ADCA-4DD2BBEA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F367A-3732-4B7B-86F2-E42E8CB3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84B19-AF59-4E42-86E3-391E390F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78B57-0CC2-49B0-A05F-1C370A2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7BF06-2CD7-4CE7-80BA-41E37860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D31C8-CECD-4189-9868-0C33B262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9D851-CA19-4053-AC54-CD15B1DB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67F84-A12D-4D75-9C7C-4E7D22D5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05B5F-DE9D-4A02-BA74-37A2E98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707AD-EE80-4542-9F22-859B118D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F07CF-A34F-4FB7-99F9-B3386C49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4E07-81B3-4EF4-BA03-7C081960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B8CB1-7679-4A37-9EDB-B863AA2B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F3007-F27A-4A9F-AD35-58E27347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8A7F3-FF81-4D93-8FA7-C4DC89D5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3C2D8-2D17-4E3F-96B5-0A859AB6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4DBF7-DFBA-4417-9088-DE67F5FC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0CD09-49F9-4FF2-A7D7-ED4757F5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6F42E-3057-4C59-A5A8-60CFB5B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36728-CB38-4C1B-8218-DE86C09A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E9284-F658-4B63-A324-3758C581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53533-EDF1-4411-9A10-E2F565E0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C440-EA9F-42E8-A7F7-DA34DB8C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3F27A-C458-411F-858D-FAC6914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57580-498D-41A5-B505-DCC4056C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0FE8C-8A16-42E0-93F5-4091D94F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BD74C-3203-452C-9D68-4F56D3B3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99B11-04AF-4D87-8A9F-E6397634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7A09-D67A-46D6-9C60-7199785A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2EF-090A-423D-857B-757898B9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04F9-6DC6-4D1E-9D94-6DBAB3C3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B0DD-E527-423D-B1C6-0D0A8178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7D6A-B014-4C4C-8752-0518B643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A20-A27A-440E-AA12-AE9D835A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4020-4E3A-417E-9F29-7D0C9752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B8F1-0AFD-48F5-B2F0-F1A93932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8227-3ECC-4052-9B3B-A5ED0C97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C386-4969-428E-9F8F-DF041344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C783-DC78-4227-886A-A86339C9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AE9C-0580-49A8-9B5A-80060310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7CFE-9F18-4A69-9304-3800297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867E-EAB3-4BED-BAE7-5A71531D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45F3-729B-4835-A499-EF6BDFCC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6BC9-6328-4AF5-B460-054AB7D4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AC0-F971-4186-9070-9618DB7F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BEA3-C752-4749-9C30-8AB65A05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C9A4-120E-43D6-9F4B-E4441F5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C6C2-3D37-4A16-95A4-D88C9E6A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D6AB-B4D4-4F69-8403-89204A2D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DFA1-D468-4543-B941-38E36BB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3B75-36EC-45C7-B73B-BD28AD34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7044-D8E1-42CB-9E75-5217F7E5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58ED-8658-45BF-B46E-047442A4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01B6F-8BFB-4E48-92AF-CC3522CC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4F68-DAFD-4C38-98C8-146CC45B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3F0-E8FB-480A-9132-D9F83A56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27B1F-822E-4CD2-89EB-A52D1A2E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26EE-9216-47D9-8C36-9D99C131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523A-2D6F-4BEC-93D1-BBAA2209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29E1-1147-4C29-9F29-A831013F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4F4D-B5E2-4ABC-A6BA-A360213B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2175D-EB98-4ED1-86AB-6D67B800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7408-3158-4135-9A7A-D7797CE2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961F9-7D3E-4969-998E-1A6272C0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88F5-D74E-4FCB-82FB-ABC089AD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F2A15-F5ED-4434-A9F4-5CDF1C48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16B-87E8-4F43-90D3-DBBF883E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5BBD-6517-4312-B039-D2F1A9CA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DE4D-F937-498B-92D3-D02C0CEF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4DE6-686B-47DA-A4DB-9D7AA10F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CD6E0-BDA7-49F0-9DB0-2A73A83C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A004-5512-4198-867E-B57DDFDC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2364-B253-48EE-A5DE-1CDBCD8E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C62D-944B-4A02-B0AC-D61CAC8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643D3-31E8-49BA-9C4B-33D8D5E0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CA0D-7607-4DF4-9ECC-23BB1AD0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5A952-54A9-486D-9352-B66656B6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9DA-BC9C-471C-9FCF-F3C0C19B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15AF-3FBF-4C8F-9AD0-FE54E2CF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D85E7-C328-4405-8727-DC174C3A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8787B-9C7E-4EBB-B2C4-43D6144B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925BC-267D-413B-BA6F-AECCD0D1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2393A-D312-434A-BA53-C070229C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A6D2-FB61-4BDF-9AD8-D17DD0D8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FB46B-BA5A-4F2D-B6DB-6CDE8750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BD195-2356-4959-A399-7A210B8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6DF16-6738-4AAE-9D6E-244D4810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2794-A9DF-48CB-9639-48DD05D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01C-1C7F-420A-BA20-2CCA7C13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BDA4-570B-4C96-B02D-69C140D4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BC6E4-1BF9-461A-B4CE-733E390B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F9B6E-5BE1-4456-BF95-D78A7538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9174B-8246-4FDF-94C0-4163F622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517AC-510B-4C30-A858-63615712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1055-44ED-4FB5-9198-E2B5C9F5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2C64F-6AA7-4EB5-85E2-7F273F35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5C0C-BB0F-4151-93CB-9FD6C79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2495B-0B58-472D-8A16-A66A31E2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C2EFE-C390-4F5A-814B-7819BD84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517-388D-410E-9731-3D17B77B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85EC6-C17E-44A5-9A29-32187FF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3DE61-3066-4605-B769-C4FC31F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26F0E-ECD5-49B5-8183-5DE4BADC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DB8A7-D4BF-4E09-A395-4EFAA8C4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63AD5-0783-4B85-ABAC-A7B70967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8167D-D86F-4D72-A0F3-5F90D880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65DB6-0371-4C32-BBA6-961D97C0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A142F-94B4-4908-9ADA-9033F42D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30889-6AF9-4651-ABE3-946BB372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06B7-6A55-42C4-BB23-19A0301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2A8-9F93-4D55-A8B5-84B519F1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CD3D0-1FB9-4A05-AA8C-481C1DE0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51578-1322-43C0-9618-E8F35680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13AD5-7517-4175-8AE0-3A5DAE7C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96C04-82B8-4111-A99F-E943328A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37B88-2AC0-443F-92E6-E61D51D0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B207F-3C98-4E69-93BA-9399848C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0733-AEA2-45BC-8F91-4F8CADED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496B8-83FB-434B-AA21-F26EA306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08EE6-D9CD-4585-8907-DBF749CD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10BF9-5361-4D06-895C-F1312C6D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799-3330-491E-B30C-9971E475AD6E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6D7A-C2A4-49B9-92A7-677E77084E9D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4D08-7156-4D20-89C0-48294780CA7E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BCF4-4F25-4F64-8129-57F76BEEE521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7D81-6B4A-425B-BD83-58D4D48121E5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CAF5-8D1E-4279-8592-ED0C06BA688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CEAB-5B5D-43C7-99A6-EEB23E00D86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5AE5-24E5-41CF-8A20-0B860EEBE08C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DC08-9517-4F78-AE95-43153884EB99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3577-3CFC-43F6-9379-82D0BD44CF46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6AC1-3C0C-4556-A00F-14778AEE2C20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28C7-E683-40D9-9CBF-4C3A6A771956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DCD1-6F3B-4958-8C39-D96B763A4F4D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2169-A753-4D3F-B7DA-ADD69BDECFD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895-09CD-4173-8CD9-FAD2D019DEB1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918D-24A8-46F4-9F78-BC388BA7A006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840D-959D-4C39-8955-601577B9F5B2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0F0B-7820-4529-B0D0-7E3AE1DA47D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89D4-229F-4B0E-A544-F832F1B4B907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5D52-0CA5-413B-ACC4-FE330628F0C0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AF0C-AD87-4C73-B92A-BE8E1425B799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29CB-13BF-4AD3-835B-A8E2FF2E1BA8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6178-644C-48A0-BC60-4E9D813C3C16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0183-63CD-4B61-AC99-30E1172E9225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d16349"/>
                </a:solidFill>
                <a:latin typeface="Georgia"/>
              </a:rPr>
              <a:t>Issues Analysis  Review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necdot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ersonal stories or experiences that are shared to relate a poi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an usually be easily spotted through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first-perso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perspectives and references to events pa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 take the train every day. I pay for my Metcard, stick it in the machine and leave. I don’t see why I have to take another plastic card out, flatten it against a scanner and wait for it to beep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llit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Repeating the opening syllable or sound throughout a sente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ed to appeal to readers by using catchy phrases and draws attention to the issu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on’t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s the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emon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ppe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The author can appeal to the reader by aiming comments and remarks at a particular aspect of the audience’s mind. For example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Nationalis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The Australian thing to do is to welcome people to our shores.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Fea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You don’t want Mr Jones to come back, do you comrades?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Compass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You have to feel sorry for those kids who lost their parents and have nowhere to live.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Famil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Your children deserve to grow up in a safe environment.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Modernis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It’s the way of the future. Doing things the old way would be living like cavemen.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Mor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Eating animals is murder. You wouldn’t eat another human; why would you eat another animal?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Freedom and cho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Everyone has the right to be who they want to be. It is not up to one person to dictate who you become.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Simi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A simile is a statement that compares one idea to something els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Look for the words </a:t>
            </a:r>
            <a:r>
              <a:rPr b="1" lang="en-AU" sz="2500" spc="-1" strike="noStrike">
                <a:solidFill>
                  <a:srgbClr val="000000"/>
                </a:solidFill>
                <a:latin typeface="Georgia"/>
              </a:rPr>
              <a:t>like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AU" sz="2500" spc="-1" strike="noStrike">
                <a:solidFill>
                  <a:srgbClr val="000000"/>
                </a:solidFill>
                <a:latin typeface="Georgia"/>
              </a:rPr>
              <a:t>as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Made to point out a similarity between ideas, sometimes to ridicule them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0000"/>
                </a:solidFill>
                <a:uFillTx/>
                <a:latin typeface="Georgia"/>
              </a:rPr>
              <a:t>Exampl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Watching the Grand Final is as satisfying as watching pigs roll around in mud.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Writing this essay is like trying to type without a screen and all your vowels are missing.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Metaph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nstead of comparing something to something else, a metaphor states that something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i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something el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Your brain is a sack of potatoe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Your potatoes are mouldy rock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ttack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words or phrases that make a person look ba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ed to turn the reader’s favour towards the author and against the targe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The minister is selfish and corrupt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Management has absolutely no clue what they are doing. A bunch of monkeys could do better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Colloquial langu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common or slang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ed to attract to a particular audience or to put the author on the same level as the read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Your son is a noob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Cliché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ommonly (or overused) phrases that readers can easily recognise and relate t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He was like a fish out of water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That’s just the tip of the iceberg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Exagg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Hyperbole (or exaggeration) is when the author inflates reality and makes it look much bigger or small than it actually i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The millions and millions of Rock fan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Basic concep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sues are complex matters that often involve debate and discussion and concern many peop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sues are usually presented so that there are two clear, opposing sides: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fo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against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Emotive langu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words that are meant to invoke a certain feeling or emo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The death was heartbreakingly tragic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happened yesterday was nothing short of shame and embarrassment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Termin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Contentio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The point of a view of a particular person or group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What the person thinks should happ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Argument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A point or statement made to support the contentio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Stakehol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A person or group who is affected by the issue, and therefore has a say in what should happ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Persuasive Techniqu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nclusive langu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Rhetorical ques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Statis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Expert opin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u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lliter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necdo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ppe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Inclusive langu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language that makes the reader feel part of the issu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Look for words such as “we”, “us” and “our”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W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need to move Australia forward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t’s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ou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problem, and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w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need to deal with it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togeth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Rhetorical qu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Questions that are asked but have an obvious answer or are not meant to be answer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 meant to point out obvious flaws in arguments and raise awkward questions for the oppos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y would a cow want to order a hamburger?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You wouldn’t want a murderer to go free, would you?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Statistic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research and data to support an argu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 meant to impress the reader with facts and figur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Look for percentages and numbers, and pay attention to words such as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researcher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studie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survey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95% of facts involving 95% are made up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One in five people have some sort of mental illnes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Expert opin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Quotes and statements from people in established positions, often providing insight into certain attitudes and behaviour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Is meant to provide more weight to an argument by referring to someone who has a lot of knowledg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Look for terms such as </a:t>
            </a:r>
            <a:r>
              <a:rPr b="1" lang="en-AU" sz="2500" spc="-1" strike="noStrike">
                <a:solidFill>
                  <a:srgbClr val="000000"/>
                </a:solidFill>
                <a:latin typeface="Georgia"/>
              </a:rPr>
              <a:t>university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AU" sz="2500" spc="-1" strike="noStrike">
                <a:solidFill>
                  <a:srgbClr val="000000"/>
                </a:solidFill>
                <a:latin typeface="Georgia"/>
              </a:rPr>
              <a:t>professor, doctor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 and other professional peopl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Michio Kaku, professor at Tokyo University and a lecturer in computer technology, believes that one day robots will have minds of their own.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Pu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uns are a play on words, which are meant to amuse and sometimes ridicule the topic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Melbourne goes through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stormy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weather: NRL investigates salary cap breache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nother person got electrocuted? Shocking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3:06:24Z</dcterms:created>
  <dc:creator>David Nguyen</dc:creator>
  <dc:description/>
  <dc:language>en-US</dc:language>
  <cp:lastModifiedBy>Valued Acer Customer</cp:lastModifiedBy>
  <dcterms:modified xsi:type="dcterms:W3CDTF">2011-05-24T01:43:55Z</dcterms:modified>
  <cp:revision>10</cp:revision>
  <dc:subject/>
  <dc:title>Issues Analysis  Review</dc:title>
</cp:coreProperties>
</file>